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23.gif" ContentType="image/gif"/>
  <Override PartName="/ppt/media/image9.wmf" ContentType="image/x-wmf"/>
  <Override PartName="/ppt/media/image8.jpeg" ContentType="image/jpeg"/>
  <Override PartName="/ppt/media/image13.wmf" ContentType="image/x-wmf"/>
  <Override PartName="/ppt/media/image10.wmf" ContentType="image/x-wmf"/>
  <Override PartName="/ppt/media/image22.gif" ContentType="image/gif"/>
  <Override PartName="/ppt/media/image25.jpeg" ContentType="image/jpeg"/>
  <Override PartName="/ppt/media/image7.jpeg" ContentType="image/jpeg"/>
  <Override PartName="/ppt/media/image5.gif" ContentType="image/gif"/>
  <Override PartName="/ppt/media/image12.wmf" ContentType="image/x-wmf"/>
  <Override PartName="/ppt/media/image24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6.gif" ContentType="image/gif"/>
  <Override PartName="/ppt/media/image14.wmf" ContentType="image/x-wmf"/>
  <Override PartName="/ppt/media/image4.gif" ContentType="image/gif"/>
  <Override PartName="/ppt/media/image6.jpeg" ContentType="image/jpeg"/>
  <Override PartName="/ppt/media/image19.gif" ContentType="image/gif"/>
  <Override PartName="/ppt/media/image21.gif" ContentType="image/gif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60F-FC0E-442F-8048-12DF03E1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23B-6DF9-44C9-A750-F140CFD9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F57-D865-4CEE-8147-4ED3EC78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3FC-88DA-479F-980F-66629A7A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529-14DF-4879-84BF-BE3499AB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398-BE2C-4865-99A5-0F264C7D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F21-6697-487B-9E96-292C3217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CE2-1F45-4F6F-BF18-CEF9D708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9E0-72BD-4D02-BF02-0FC88525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05C-197C-42B5-AD1C-0B2B4A1B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F1C-E7B1-4011-8941-47B04923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CEA-E2F5-4DFD-80B5-052ABAAD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80A0-9ECA-423F-951A-16C2CBB9F3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" Target="slide18.xml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slide" Target="slide14.xml"/><Relationship Id="rId10" Type="http://schemas.openxmlformats.org/officeDocument/2006/relationships/image" Target="../media/image23.gif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5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296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4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8100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84360" y="42228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25892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39640" y="1052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308720" y="3333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8101080" y="134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8244000" y="4921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315200" y="6054840"/>
            <a:ext cx="963720" cy="803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676520" y="1600200"/>
            <a:ext cx="55623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向抄袭说</a:t>
            </a:r>
            <a:r>
              <a:rPr b="0" lang="en-US" sz="24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Bye-bye</a:t>
            </a:r>
            <a:endParaRPr b="0" lang="en-US" sz="2400" spc="1" strike="noStrike">
              <a:ln w="255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372600" y="380880"/>
            <a:ext cx="1447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万用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2952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如果你去抄别人的作业就等于对老师、家长和自己不负责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20040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抄作业是等于害自己，看不起自己，认为自己没有能力，对自己没信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2860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60948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抄袭的危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895480" y="19810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7650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295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04920"/>
            <a:ext cx="30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289548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抄袭的危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21337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对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4720" y="177336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2276640"/>
            <a:ext cx="228600" cy="1981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378936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对他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167652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上课不专心，成绩下降。行为不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56000" y="2708280"/>
            <a:ext cx="39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养成依赖心理，逐渐讨厌学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357336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350028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对不起同学的劳动成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407664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对不起父母的养育之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27640" y="46530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对不起老师的辛勤教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树立抄袭可耻的观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课认真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人小组监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老师布置作业同学互相提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困难找老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找同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老师布置作业体现层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减少作业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380880"/>
            <a:ext cx="316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讲一讲：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>
            <a:lum contrast="-48000"/>
          </a:blip>
          <a:stretch/>
        </p:blipFill>
        <p:spPr>
          <a:xfrm>
            <a:off x="1332000" y="6165720"/>
            <a:ext cx="89532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>
            <a:lum contrast="-48000"/>
          </a:blip>
          <a:stretch/>
        </p:blipFill>
        <p:spPr>
          <a:xfrm>
            <a:off x="2340000" y="5308560"/>
            <a:ext cx="863640" cy="208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>
            <a:lum contrast="-48000"/>
          </a:blip>
          <a:stretch/>
        </p:blipFill>
        <p:spPr>
          <a:xfrm>
            <a:off x="4211640" y="5805360"/>
            <a:ext cx="895320" cy="21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>
            <a:lum contrast="-48000"/>
          </a:blip>
          <a:stretch/>
        </p:blipFill>
        <p:spPr>
          <a:xfrm>
            <a:off x="7956720" y="5867280"/>
            <a:ext cx="936360" cy="225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25092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717280" y="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积分细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1440" y="692280"/>
            <a:ext cx="914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上课认真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作业能独立完成及时上交者加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不懂主动问老师者加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别人不懂你去教会他们的加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同学在学习中因你指导而会做此类题加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发现同学抄作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说服他们加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;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你的动员下去老师处问作业的加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举报同学抄作业的加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26920" y="404640"/>
            <a:ext cx="2521080" cy="3024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68360" y="3645000"/>
            <a:ext cx="2678040" cy="3213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733920" y="0"/>
            <a:ext cx="2317680" cy="2781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276720" y="3573360"/>
            <a:ext cx="2736720" cy="3284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6024600" y="2708280"/>
            <a:ext cx="3119400" cy="3743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5867280" y="0"/>
            <a:ext cx="3025800" cy="3068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3049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奖励制度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兑换积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143000"/>
            <a:ext cx="8381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一个月累计积分达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0-40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分者被誉为“呆呆的初行者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2.400-80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分者被誉为“曙光中的初行者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3.800-100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分者被誉为“春风中的初行者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4.100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分以上被誉为“阳光少年”，并颁发阳光勋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90720" y="304920"/>
            <a:ext cx="5715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飞儿乐队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: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阳光下的豆芽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: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尖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: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飘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族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: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07: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梦幻组合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: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nextslide"/>
            <a:hlinkClick r:id="rId2"/>
          </p:cNvPr>
          <p:cNvSpPr/>
          <p:nvPr/>
        </p:nvSpPr>
        <p:spPr>
          <a:xfrm>
            <a:off x="7772400" y="57150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14400" y="4572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实话实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26920" y="404640"/>
            <a:ext cx="2521080" cy="302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68360" y="3645000"/>
            <a:ext cx="2678040" cy="321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708360" y="0"/>
            <a:ext cx="2317680" cy="2781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3276720" y="3573360"/>
            <a:ext cx="2736720" cy="3284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6024600" y="2708280"/>
            <a:ext cx="3119400" cy="3743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6118200" y="0"/>
            <a:ext cx="3025800" cy="3068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260280"/>
            <a:ext cx="86421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人生之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不堪重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有弃有得。失去了美貌，有健康作伴；失去了健康，有才学追随；失去了才学，有机敏相跟。但，失去了诚信呢？失去诚信，你所拥有的一切，金钱、荣誉、才学、机敏……就不过是水中月，镜中花，如过眼云烟，终会随风而逝。为了你的诚信，让我们一起向“抄袭”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bye-by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92360" y="1916280"/>
            <a:ext cx="1547640" cy="1279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14400" y="1143000"/>
            <a:ext cx="73152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背着父母的叮咛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载着新的希望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不可违背道德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不可如此荒废学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让我们一起向抄袭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: </a:t>
            </a:r>
            <a:r>
              <a:rPr b="1" i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Bye-by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932360" y="49417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715000" y="289548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7620120" y="13716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7467480" y="34290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705720" y="502920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5486400" y="-6477120"/>
            <a:ext cx="21640680" cy="16230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 rot="21539400">
            <a:off x="0" y="2971440"/>
            <a:ext cx="944892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热烈祝贺</a:t>
            </a:r>
            <a:r>
              <a:rPr b="1" lang="en-US" sz="4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"</a:t>
            </a:r>
            <a:r>
              <a:rPr b="1" lang="zh-CN" sz="4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诚信积分</a:t>
            </a:r>
            <a:r>
              <a:rPr b="1" lang="en-US" sz="4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"</a:t>
            </a:r>
            <a:r>
              <a:rPr b="1" lang="zh-CN" sz="4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活动正式开业</a:t>
            </a:r>
            <a:r>
              <a:rPr b="1" lang="en-US" sz="4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!</a:t>
            </a:r>
            <a:endParaRPr b="1" lang="en-US" sz="4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99072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888680" y="0"/>
            <a:ext cx="850680" cy="71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上有政策，下有对策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0" y="-30492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86868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"/>
                            </p:stCondLst>
                            <p:childTnLst>
                              <p:par>
                                <p:cTn id="2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49568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9200" y="1676520"/>
            <a:ext cx="4343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欲穷千里目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更上一层楼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85800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31920" y="0"/>
            <a:ext cx="789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取其精华，去其糟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抄袭过作业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71600" y="1998720"/>
            <a:ext cx="6095880" cy="4067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533600" y="1859040"/>
            <a:ext cx="609588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272360" cy="5183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057400" y="5335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当作业中碰到问题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57400" y="580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6094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当课代表催交作业，而你未完成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83000" y="580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当看到别人抄作业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 rot="5400000">
            <a:off x="-339120" y="110088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3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隶书"/>
              </a:rPr>
              <a:t>想一想：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848720" y="3124080"/>
            <a:ext cx="960480" cy="1152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152388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基础差，作业有困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438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b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上课不注意，作业做不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32004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老师讲时没做笔记，听了忘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4572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偷懒，侥幸心理，老师不知道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01:34:2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0:54:11Z</dcterms:modified>
  <cp:revision>109</cp:revision>
  <dc:subject>主题班会课件(分28大类): http://shop62905894.taobao.com</dc:subject>
  <dc:title>主题班会课件(分28大类): http://shop62905894.taobao.com</dc:title>
</cp:coreProperties>
</file>